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8C10-6549-488B-BD29-6748DBEE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79D-4AA3-4C43-A68B-D5176E49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937-55B4-417E-BE1E-23F33BCD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0A46-E262-4FF0-B368-18B5B193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F990-D6CF-4697-940D-0E5D9AE3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A8F9-6C6F-406B-AA52-95979737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16D9-00AE-491C-9AA3-458BF46C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17AE-44C8-43AC-9780-AF9DD421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3D01-320B-42B7-858B-FC27A820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B416-984F-402B-B0A1-39749087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E952-7BBF-4D88-B73E-5C756606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2EEE-D3FF-4C78-B4D8-D6FAAD99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ABE8-4EBF-43EF-B84E-56298D2A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2E1F-75A5-4A0F-B746-EAC616A2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9391-A4CF-4565-8AA4-5F80D33B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90AB-E493-431D-9D39-0A77E40F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0B80-FD2B-422A-A611-349A4380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7D7A-39D3-4087-83C1-C3EEA9B1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B9D4-01AD-470C-B77B-8F964242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3E5-D6D4-4D59-8F80-D6DFE89A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6B2C-C48A-4A77-8CBC-511A0BDC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7C03-1072-4173-846E-620BD2B3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022-1500-400D-A620-4A49D276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BCAB-032A-4273-9AD6-E731C0C0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3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4ABF-66C0-4966-9FE3-66F090C9D7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6BBB-2C14-4DF5-9E4D-A1EF81DC57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6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Operating System support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3, © Addison-Wesley 200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5360" y="2895480"/>
            <a:ext cx="1933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6.9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Java thread synchronization cal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6400" y="14320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3800" y="1655640"/>
            <a:ext cx="883944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read.join(int millise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locks the calling thread for up to the specified time until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has termin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read.interrup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rupt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 causes it to return from a blocking method call such a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leep(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bject.wait(long millisecs, int nanose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locks the calling thread until a call made to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otify(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otifyAll(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wakes the thread, or the thread is interrupted, or the specified time has elap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bject.notify(), object.notifyAll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kes, respectively, one or all of any threads that have calle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wait(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6.1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Scheduler activ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3520" y="1903320"/>
            <a:ext cx="880560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vocations between address spac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130480" y="1314360"/>
            <a:ext cx="5124240" cy="34401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230560" y="4808520"/>
            <a:ext cx="5954760" cy="1501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257480" y="4782960"/>
            <a:ext cx="740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09760" y="2994120"/>
            <a:ext cx="740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PC delay against parameter siz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996920" y="1498680"/>
            <a:ext cx="583740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lightweight remote procedure cal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888840" y="1692360"/>
            <a:ext cx="811224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6.14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imes for serialized and concurrent invoc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082960" y="1292400"/>
            <a:ext cx="585756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6.15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onolithic kernel and microkerne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50880" y="1903320"/>
            <a:ext cx="867240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6.1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e role of the microkerne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84360" y="1962000"/>
            <a:ext cx="858996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stem lay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62040" y="1625760"/>
            <a:ext cx="857880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re OS functionalit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346040" y="1592280"/>
            <a:ext cx="71726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ddress spa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514680" y="1563840"/>
            <a:ext cx="239256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py-on-writ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114640" y="1535040"/>
            <a:ext cx="5789520" cy="4595760"/>
            <a:chOff x="2114640" y="1535040"/>
            <a:chExt cx="5789520" cy="4595760"/>
          </a:xfrm>
        </p:grpSpPr>
        <p:sp>
          <p:nvSpPr>
            <p:cNvPr id="95" name=""/>
            <p:cNvSpPr/>
            <p:nvPr/>
          </p:nvSpPr>
          <p:spPr>
            <a:xfrm>
              <a:off x="2114640" y="4411800"/>
              <a:ext cx="5770440" cy="1699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14640" y="4411800"/>
              <a:ext cx="5789520" cy="1719000"/>
            </a:xfrm>
            <a:prstGeom prst="rect">
              <a:avLst/>
            </a:prstGeom>
            <a:noFill/>
            <a:ln w="190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05040" y="5060880"/>
              <a:ext cx="266760" cy="2476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05040" y="5060880"/>
              <a:ext cx="285840" cy="266760"/>
            </a:xfrm>
            <a:prstGeom prst="rect">
              <a:avLst/>
            </a:prstGeom>
            <a:noFill/>
            <a:ln w="190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73040" y="5815080"/>
              <a:ext cx="99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) Before w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42160" y="5815080"/>
              <a:ext cx="86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) After wr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90200" y="4687920"/>
              <a:ext cx="49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a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32680" y="489744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66920" y="5032440"/>
              <a:ext cx="59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's p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44040" y="5241960"/>
              <a:ext cx="33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64000" y="5051520"/>
              <a:ext cx="59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's p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41120" y="5261040"/>
              <a:ext cx="33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89960" y="1535040"/>
              <a:ext cx="184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ss A’s address sp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19160" y="1535040"/>
              <a:ext cx="184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ss B’s address sp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16440" y="424800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75040" y="1889280"/>
              <a:ext cx="877680" cy="1332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75040" y="1889280"/>
              <a:ext cx="896760" cy="152280"/>
            </a:xfrm>
            <a:prstGeom prst="rect">
              <a:avLst/>
            </a:prstGeom>
            <a:noFill/>
            <a:ln w="190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5040" y="2443320"/>
              <a:ext cx="877680" cy="382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75040" y="2443320"/>
              <a:ext cx="896760" cy="401400"/>
            </a:xfrm>
            <a:prstGeom prst="rect">
              <a:avLst/>
            </a:prstGeom>
            <a:noFill/>
            <a:ln w="190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03880" y="2443320"/>
              <a:ext cx="878040" cy="3823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03880" y="2443320"/>
              <a:ext cx="897120" cy="401400"/>
            </a:xfrm>
            <a:prstGeom prst="rect">
              <a:avLst/>
            </a:prstGeom>
            <a:noFill/>
            <a:ln w="190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5040" y="2978280"/>
              <a:ext cx="877680" cy="152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75040" y="2978280"/>
              <a:ext cx="896760" cy="171360"/>
            </a:xfrm>
            <a:prstGeom prst="rect">
              <a:avLst/>
            </a:prstGeom>
            <a:noFill/>
            <a:ln w="190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75040" y="3627360"/>
              <a:ext cx="877680" cy="2304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5040" y="3627360"/>
              <a:ext cx="896760" cy="249480"/>
            </a:xfrm>
            <a:prstGeom prst="rect">
              <a:avLst/>
            </a:prstGeom>
            <a:noFill/>
            <a:ln w="190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03880" y="3627360"/>
              <a:ext cx="878040" cy="344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03880" y="3627360"/>
              <a:ext cx="897120" cy="363600"/>
            </a:xfrm>
            <a:prstGeom prst="rect">
              <a:avLst/>
            </a:prstGeom>
            <a:noFill/>
            <a:ln w="190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03880" y="1774800"/>
              <a:ext cx="878040" cy="2476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03880" y="1774800"/>
              <a:ext cx="897120" cy="266760"/>
            </a:xfrm>
            <a:prstGeom prst="rect">
              <a:avLst/>
            </a:prstGeom>
            <a:noFill/>
            <a:ln w="190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26040" y="258588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93040" y="258588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2240" y="5118120"/>
              <a:ext cx="135000" cy="76320"/>
            </a:xfrm>
            <a:custGeom>
              <a:avLst/>
              <a:gdLst/>
              <a:ahLst/>
              <a:rect l="l" t="t" r="r" b="b"/>
              <a:pathLst>
                <a:path w="85" h="48">
                  <a:moveTo>
                    <a:pt x="0" y="24"/>
                  </a:moveTo>
                  <a:lnTo>
                    <a:pt x="0" y="0"/>
                  </a:lnTo>
                  <a:lnTo>
                    <a:pt x="85" y="24"/>
                  </a:lnTo>
                  <a:lnTo>
                    <a:pt x="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03640" y="5137200"/>
              <a:ext cx="2095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54760" y="5099040"/>
              <a:ext cx="135000" cy="76320"/>
            </a:xfrm>
            <a:custGeom>
              <a:avLst/>
              <a:gdLst/>
              <a:ahLst/>
              <a:rect l="l" t="t" r="r" b="b"/>
              <a:pathLst>
                <a:path w="85" h="48">
                  <a:moveTo>
                    <a:pt x="0" y="24"/>
                  </a:moveTo>
                  <a:lnTo>
                    <a:pt x="0" y="0"/>
                  </a:lnTo>
                  <a:lnTo>
                    <a:pt x="85" y="24"/>
                  </a:lnTo>
                  <a:lnTo>
                    <a:pt x="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26160" y="5137200"/>
              <a:ext cx="228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29040" y="5118120"/>
              <a:ext cx="135000" cy="76320"/>
            </a:xfrm>
            <a:custGeom>
              <a:avLst/>
              <a:gdLst/>
              <a:ahLst/>
              <a:rect l="l" t="t" r="r" b="b"/>
              <a:pathLst>
                <a:path w="85" h="48">
                  <a:moveTo>
                    <a:pt x="85" y="24"/>
                  </a:moveTo>
                  <a:lnTo>
                    <a:pt x="85" y="48"/>
                  </a:lnTo>
                  <a:lnTo>
                    <a:pt x="0" y="24"/>
                  </a:lnTo>
                  <a:lnTo>
                    <a:pt x="85" y="0"/>
                  </a:lnTo>
                  <a:lnTo>
                    <a:pt x="85" y="2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082760" y="5156280"/>
              <a:ext cx="152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53320" y="5099040"/>
              <a:ext cx="152280" cy="7632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96" y="24"/>
                  </a:moveTo>
                  <a:lnTo>
                    <a:pt x="96" y="48"/>
                  </a:lnTo>
                  <a:lnTo>
                    <a:pt x="0" y="24"/>
                  </a:lnTo>
                  <a:lnTo>
                    <a:pt x="96" y="0"/>
                  </a:lnTo>
                  <a:lnTo>
                    <a:pt x="96" y="2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7005600" y="5137200"/>
              <a:ext cx="192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31080" y="2614680"/>
              <a:ext cx="134640" cy="75960"/>
            </a:xfrm>
            <a:custGeom>
              <a:avLst/>
              <a:gdLst/>
              <a:ahLst/>
              <a:rect l="l" t="t" r="r" b="b"/>
              <a:pathLst>
                <a:path w="85" h="48">
                  <a:moveTo>
                    <a:pt x="0" y="24"/>
                  </a:moveTo>
                  <a:lnTo>
                    <a:pt x="0" y="0"/>
                  </a:lnTo>
                  <a:lnTo>
                    <a:pt x="85" y="24"/>
                  </a:lnTo>
                  <a:lnTo>
                    <a:pt x="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52720" y="2652840"/>
              <a:ext cx="2159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72080" y="2279520"/>
              <a:ext cx="70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B copi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05200" y="2471760"/>
              <a:ext cx="56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m 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89160" y="4735440"/>
              <a:ext cx="11448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89160" y="4735440"/>
              <a:ext cx="133560" cy="860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89160" y="5079960"/>
              <a:ext cx="11448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9160" y="5079960"/>
              <a:ext cx="133560" cy="152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35400" y="4735440"/>
              <a:ext cx="11448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35400" y="4735440"/>
              <a:ext cx="133560" cy="860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35400" y="5099040"/>
              <a:ext cx="11448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35400" y="5099040"/>
              <a:ext cx="133560" cy="13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11680" y="4754520"/>
              <a:ext cx="11448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11680" y="4754520"/>
              <a:ext cx="133560" cy="860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11680" y="5099040"/>
              <a:ext cx="114480" cy="13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11680" y="5099040"/>
              <a:ext cx="133560" cy="152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4754520"/>
              <a:ext cx="11412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97840" y="4754520"/>
              <a:ext cx="133200" cy="860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197840" y="5099040"/>
              <a:ext cx="114120" cy="13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97840" y="5099040"/>
              <a:ext cx="133200" cy="152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75040" y="1774800"/>
              <a:ext cx="896760" cy="2235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03880" y="1774800"/>
              <a:ext cx="897120" cy="2216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46640" y="5060880"/>
              <a:ext cx="266760" cy="2476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46640" y="5060880"/>
              <a:ext cx="285840" cy="266760"/>
            </a:xfrm>
            <a:prstGeom prst="rect">
              <a:avLst/>
            </a:prstGeom>
            <a:noFill/>
            <a:ln w="190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6960" y="5060880"/>
              <a:ext cx="268200" cy="24768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46960" y="5060880"/>
              <a:ext cx="287280" cy="266760"/>
            </a:xfrm>
            <a:prstGeom prst="rect">
              <a:avLst/>
            </a:prstGeom>
            <a:noFill/>
            <a:ln w="190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ent and server with thread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26480" y="1998720"/>
            <a:ext cx="8620200" cy="2949480"/>
            <a:chOff x="726480" y="1998720"/>
            <a:chExt cx="8620200" cy="2949480"/>
          </a:xfrm>
        </p:grpSpPr>
        <p:sp>
          <p:nvSpPr>
            <p:cNvPr id="162" name=""/>
            <p:cNvSpPr/>
            <p:nvPr/>
          </p:nvSpPr>
          <p:spPr>
            <a:xfrm>
              <a:off x="7113960" y="4719600"/>
              <a:ext cx="56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59680" y="2314440"/>
              <a:ext cx="2212920" cy="2214720"/>
            </a:xfrm>
            <a:prstGeom prst="ellipse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00200" y="4110120"/>
              <a:ext cx="83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N thread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43840" y="2066760"/>
              <a:ext cx="880920" cy="24768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43840" y="1998720"/>
              <a:ext cx="880920" cy="249120"/>
            </a:xfrm>
            <a:prstGeom prst="ellipse">
              <a:avLst/>
            </a:prstGeom>
            <a:solidFill>
              <a:srgbClr val="ffffff"/>
            </a:solidFill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21760" y="2529000"/>
              <a:ext cx="1024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nput-outpu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37200" y="2879640"/>
              <a:ext cx="158760" cy="136440"/>
            </a:xfrm>
            <a:custGeom>
              <a:avLst/>
              <a:gdLst/>
              <a:ahLst/>
              <a:rect l="l" t="t" r="r" b="b"/>
              <a:pathLst>
                <a:path w="100" h="86">
                  <a:moveTo>
                    <a:pt x="14" y="57"/>
                  </a:moveTo>
                  <a:lnTo>
                    <a:pt x="0" y="29"/>
                  </a:lnTo>
                  <a:lnTo>
                    <a:pt x="100" y="0"/>
                  </a:lnTo>
                  <a:lnTo>
                    <a:pt x="43" y="86"/>
                  </a:lnTo>
                  <a:lnTo>
                    <a:pt x="14" y="57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440400" y="2970000"/>
              <a:ext cx="519120" cy="36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92920" y="3286080"/>
              <a:ext cx="179280" cy="9036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14" y="29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4" y="57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462720" y="3331800"/>
              <a:ext cx="430200" cy="903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92920" y="3760920"/>
              <a:ext cx="179280" cy="112680"/>
            </a:xfrm>
            <a:custGeom>
              <a:avLst/>
              <a:gdLst/>
              <a:ahLst/>
              <a:rect l="l" t="t" r="r" b="b"/>
              <a:pathLst>
                <a:path w="113" h="71">
                  <a:moveTo>
                    <a:pt x="28" y="29"/>
                  </a:moveTo>
                  <a:lnTo>
                    <a:pt x="42" y="0"/>
                  </a:lnTo>
                  <a:lnTo>
                    <a:pt x="113" y="71"/>
                  </a:lnTo>
                  <a:lnTo>
                    <a:pt x="0" y="57"/>
                  </a:lnTo>
                  <a:lnTo>
                    <a:pt x="28" y="29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40400" y="3513240"/>
              <a:ext cx="474840" cy="2937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18480" y="2292480"/>
              <a:ext cx="181080" cy="136440"/>
            </a:xfrm>
            <a:custGeom>
              <a:avLst/>
              <a:gdLst/>
              <a:ahLst/>
              <a:rect l="l" t="t" r="r" b="b"/>
              <a:pathLst>
                <a:path w="114" h="86">
                  <a:moveTo>
                    <a:pt x="14" y="57"/>
                  </a:moveTo>
                  <a:lnTo>
                    <a:pt x="0" y="29"/>
                  </a:lnTo>
                  <a:lnTo>
                    <a:pt x="114" y="0"/>
                  </a:lnTo>
                  <a:lnTo>
                    <a:pt x="28" y="86"/>
                  </a:lnTo>
                  <a:lnTo>
                    <a:pt x="14" y="57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7502400" y="2382840"/>
              <a:ext cx="338400" cy="2030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99560" y="2338560"/>
              <a:ext cx="156960" cy="1569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28" y="85"/>
                  </a:moveTo>
                  <a:lnTo>
                    <a:pt x="0" y="57"/>
                  </a:lnTo>
                  <a:lnTo>
                    <a:pt x="99" y="0"/>
                  </a:lnTo>
                  <a:lnTo>
                    <a:pt x="56" y="99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7502400" y="2473200"/>
              <a:ext cx="541440" cy="6559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34200" y="2451240"/>
              <a:ext cx="113040" cy="15696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28" y="85"/>
                  </a:moveTo>
                  <a:lnTo>
                    <a:pt x="0" y="71"/>
                  </a:lnTo>
                  <a:lnTo>
                    <a:pt x="71" y="0"/>
                  </a:lnTo>
                  <a:lnTo>
                    <a:pt x="57" y="99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7455960" y="2608200"/>
              <a:ext cx="700200" cy="1198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88280" y="3219480"/>
              <a:ext cx="68040" cy="112680"/>
            </a:xfrm>
            <a:custGeom>
              <a:avLst/>
              <a:gdLst/>
              <a:ahLst/>
              <a:rect l="l" t="t" r="r" b="b"/>
              <a:pathLst>
                <a:path w="43" h="71">
                  <a:moveTo>
                    <a:pt x="15" y="71"/>
                  </a:moveTo>
                  <a:lnTo>
                    <a:pt x="0" y="71"/>
                  </a:lnTo>
                  <a:lnTo>
                    <a:pt x="29" y="0"/>
                  </a:lnTo>
                  <a:lnTo>
                    <a:pt x="43" y="71"/>
                  </a:lnTo>
                  <a:lnTo>
                    <a:pt x="15" y="71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84880" y="3105000"/>
              <a:ext cx="227160" cy="293760"/>
            </a:xfrm>
            <a:custGeom>
              <a:avLst/>
              <a:gdLst/>
              <a:ahLst/>
              <a:rect l="l" t="t" r="r" b="b"/>
              <a:pathLst>
                <a:path w="143" h="185">
                  <a:moveTo>
                    <a:pt x="143" y="157"/>
                  </a:moveTo>
                  <a:lnTo>
                    <a:pt x="143" y="157"/>
                  </a:lnTo>
                  <a:lnTo>
                    <a:pt x="143" y="157"/>
                  </a:lnTo>
                  <a:lnTo>
                    <a:pt x="100" y="185"/>
                  </a:lnTo>
                  <a:lnTo>
                    <a:pt x="29" y="171"/>
                  </a:lnTo>
                  <a:lnTo>
                    <a:pt x="0" y="129"/>
                  </a:lnTo>
                  <a:lnTo>
                    <a:pt x="0" y="72"/>
                  </a:lnTo>
                  <a:lnTo>
                    <a:pt x="29" y="29"/>
                  </a:lnTo>
                  <a:lnTo>
                    <a:pt x="86" y="0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65960" y="3895560"/>
              <a:ext cx="68400" cy="11448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29" y="57"/>
                  </a:moveTo>
                  <a:lnTo>
                    <a:pt x="0" y="57"/>
                  </a:lnTo>
                  <a:lnTo>
                    <a:pt x="29" y="0"/>
                  </a:lnTo>
                  <a:lnTo>
                    <a:pt x="43" y="72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84880" y="3782880"/>
              <a:ext cx="203400" cy="271440"/>
            </a:xfrm>
            <a:custGeom>
              <a:avLst/>
              <a:gdLst/>
              <a:ahLst/>
              <a:rect l="l" t="t" r="r" b="b"/>
              <a:pathLst>
                <a:path w="128" h="171">
                  <a:moveTo>
                    <a:pt x="128" y="143"/>
                  </a:moveTo>
                  <a:lnTo>
                    <a:pt x="128" y="143"/>
                  </a:lnTo>
                  <a:lnTo>
                    <a:pt x="128" y="143"/>
                  </a:lnTo>
                  <a:lnTo>
                    <a:pt x="86" y="171"/>
                  </a:lnTo>
                  <a:lnTo>
                    <a:pt x="29" y="157"/>
                  </a:lnTo>
                  <a:lnTo>
                    <a:pt x="0" y="114"/>
                  </a:lnTo>
                  <a:lnTo>
                    <a:pt x="0" y="57"/>
                  </a:lnTo>
                  <a:lnTo>
                    <a:pt x="29" y="15"/>
                  </a:lnTo>
                  <a:lnTo>
                    <a:pt x="72" y="0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88280" y="2676600"/>
              <a:ext cx="68040" cy="112680"/>
            </a:xfrm>
            <a:custGeom>
              <a:avLst/>
              <a:gdLst/>
              <a:ahLst/>
              <a:rect l="l" t="t" r="r" b="b"/>
              <a:pathLst>
                <a:path w="43" h="71">
                  <a:moveTo>
                    <a:pt x="15" y="71"/>
                  </a:moveTo>
                  <a:lnTo>
                    <a:pt x="0" y="71"/>
                  </a:lnTo>
                  <a:lnTo>
                    <a:pt x="29" y="0"/>
                  </a:lnTo>
                  <a:lnTo>
                    <a:pt x="43" y="71"/>
                  </a:lnTo>
                  <a:lnTo>
                    <a:pt x="15" y="71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84880" y="2563920"/>
              <a:ext cx="227160" cy="271440"/>
            </a:xfrm>
            <a:custGeom>
              <a:avLst/>
              <a:gdLst/>
              <a:ahLst/>
              <a:rect l="l" t="t" r="r" b="b"/>
              <a:pathLst>
                <a:path w="143" h="171">
                  <a:moveTo>
                    <a:pt x="143" y="142"/>
                  </a:moveTo>
                  <a:lnTo>
                    <a:pt x="143" y="142"/>
                  </a:lnTo>
                  <a:lnTo>
                    <a:pt x="143" y="142"/>
                  </a:lnTo>
                  <a:lnTo>
                    <a:pt x="100" y="171"/>
                  </a:lnTo>
                  <a:lnTo>
                    <a:pt x="29" y="171"/>
                  </a:lnTo>
                  <a:lnTo>
                    <a:pt x="0" y="128"/>
                  </a:lnTo>
                  <a:lnTo>
                    <a:pt x="0" y="71"/>
                  </a:lnTo>
                  <a:lnTo>
                    <a:pt x="29" y="14"/>
                  </a:lnTo>
                  <a:lnTo>
                    <a:pt x="86" y="0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12000" y="3105000"/>
              <a:ext cx="134640" cy="181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39920" y="3241800"/>
              <a:ext cx="8589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95600" y="4425840"/>
              <a:ext cx="489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82960" y="2189160"/>
              <a:ext cx="1384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Thread 2 mak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30840" y="3522600"/>
              <a:ext cx="22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76520" y="1998720"/>
              <a:ext cx="2212920" cy="2214360"/>
            </a:xfrm>
            <a:prstGeom prst="ellipse">
              <a:avLst/>
            </a:prstGeom>
            <a:solidFill>
              <a:srgbClr val="ffdc99"/>
            </a:solidFill>
            <a:ln w="334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0160" y="2979720"/>
              <a:ext cx="76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Thread 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6040" y="3151080"/>
              <a:ext cx="44640" cy="112680"/>
            </a:xfrm>
            <a:custGeom>
              <a:avLst/>
              <a:gdLst/>
              <a:ahLst/>
              <a:rect l="l" t="t" r="r" b="b"/>
              <a:pathLst>
                <a:path w="28" h="71">
                  <a:moveTo>
                    <a:pt x="14" y="71"/>
                  </a:moveTo>
                  <a:lnTo>
                    <a:pt x="0" y="71"/>
                  </a:lnTo>
                  <a:lnTo>
                    <a:pt x="28" y="0"/>
                  </a:lnTo>
                  <a:lnTo>
                    <a:pt x="28" y="71"/>
                  </a:lnTo>
                  <a:lnTo>
                    <a:pt x="14" y="71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83000" y="3038400"/>
              <a:ext cx="225360" cy="271440"/>
            </a:xfrm>
            <a:custGeom>
              <a:avLst/>
              <a:gdLst/>
              <a:ahLst/>
              <a:rect l="l" t="t" r="r" b="b"/>
              <a:pathLst>
                <a:path w="142" h="171">
                  <a:moveTo>
                    <a:pt x="142" y="142"/>
                  </a:moveTo>
                  <a:lnTo>
                    <a:pt x="142" y="142"/>
                  </a:lnTo>
                  <a:lnTo>
                    <a:pt x="142" y="142"/>
                  </a:lnTo>
                  <a:lnTo>
                    <a:pt x="85" y="171"/>
                  </a:lnTo>
                  <a:lnTo>
                    <a:pt x="42" y="156"/>
                  </a:lnTo>
                  <a:lnTo>
                    <a:pt x="0" y="114"/>
                  </a:lnTo>
                  <a:lnTo>
                    <a:pt x="0" y="71"/>
                  </a:lnTo>
                  <a:lnTo>
                    <a:pt x="28" y="28"/>
                  </a:lnTo>
                  <a:lnTo>
                    <a:pt x="85" y="0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62240" y="3105000"/>
              <a:ext cx="204840" cy="13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62240" y="3105000"/>
              <a:ext cx="226800" cy="15876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58840" y="3151080"/>
              <a:ext cx="68400" cy="112680"/>
            </a:xfrm>
            <a:custGeom>
              <a:avLst/>
              <a:gdLst/>
              <a:ahLst/>
              <a:rect l="l" t="t" r="r" b="b"/>
              <a:pathLst>
                <a:path w="43" h="71">
                  <a:moveTo>
                    <a:pt x="15" y="71"/>
                  </a:moveTo>
                  <a:lnTo>
                    <a:pt x="0" y="71"/>
                  </a:lnTo>
                  <a:lnTo>
                    <a:pt x="29" y="0"/>
                  </a:lnTo>
                  <a:lnTo>
                    <a:pt x="43" y="71"/>
                  </a:lnTo>
                  <a:lnTo>
                    <a:pt x="15" y="71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55800" y="3038400"/>
              <a:ext cx="227160" cy="271440"/>
            </a:xfrm>
            <a:custGeom>
              <a:avLst/>
              <a:gdLst/>
              <a:ahLst/>
              <a:rect l="l" t="t" r="r" b="b"/>
              <a:pathLst>
                <a:path w="143" h="171">
                  <a:moveTo>
                    <a:pt x="143" y="142"/>
                  </a:moveTo>
                  <a:lnTo>
                    <a:pt x="143" y="142"/>
                  </a:lnTo>
                  <a:lnTo>
                    <a:pt x="143" y="142"/>
                  </a:lnTo>
                  <a:lnTo>
                    <a:pt x="100" y="171"/>
                  </a:lnTo>
                  <a:lnTo>
                    <a:pt x="43" y="156"/>
                  </a:lnTo>
                  <a:lnTo>
                    <a:pt x="15" y="114"/>
                  </a:lnTo>
                  <a:lnTo>
                    <a:pt x="0" y="71"/>
                  </a:lnTo>
                  <a:lnTo>
                    <a:pt x="43" y="28"/>
                  </a:lnTo>
                  <a:lnTo>
                    <a:pt x="86" y="0"/>
                  </a:lnTo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14760" y="3105000"/>
              <a:ext cx="203040" cy="13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14760" y="3105000"/>
              <a:ext cx="225360" cy="15876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43160" y="3105000"/>
              <a:ext cx="203400" cy="13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43160" y="3105000"/>
              <a:ext cx="225360" cy="15876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21280" y="3354480"/>
              <a:ext cx="181080" cy="90360"/>
            </a:xfrm>
            <a:custGeom>
              <a:avLst/>
              <a:gdLst/>
              <a:ahLst/>
              <a:rect l="l" t="t" r="r" b="b"/>
              <a:pathLst>
                <a:path w="114" h="57">
                  <a:moveTo>
                    <a:pt x="0" y="28"/>
                  </a:moveTo>
                  <a:lnTo>
                    <a:pt x="14" y="0"/>
                  </a:lnTo>
                  <a:lnTo>
                    <a:pt x="114" y="28"/>
                  </a:lnTo>
                  <a:lnTo>
                    <a:pt x="0" y="5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89440" y="3173400"/>
              <a:ext cx="2031840" cy="2253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02080" y="3129120"/>
              <a:ext cx="68040" cy="6660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0" y="14"/>
                  </a:moveTo>
                  <a:lnTo>
                    <a:pt x="0" y="0"/>
                  </a:lnTo>
                  <a:lnTo>
                    <a:pt x="43" y="14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89040" y="3151080"/>
              <a:ext cx="11304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52800" y="3129120"/>
              <a:ext cx="4608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0" y="14"/>
                  </a:moveTo>
                  <a:lnTo>
                    <a:pt x="0" y="0"/>
                  </a:lnTo>
                  <a:lnTo>
                    <a:pt x="29" y="14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17800" y="3151080"/>
              <a:ext cx="11268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85480" y="2392200"/>
              <a:ext cx="153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requests to serv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6480" y="3182760"/>
              <a:ext cx="90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generates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9080" y="3409920"/>
              <a:ext cx="566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73120" y="3038400"/>
              <a:ext cx="338040" cy="90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730680" y="2585520"/>
              <a:ext cx="338040" cy="430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21280" y="3513240"/>
              <a:ext cx="157320" cy="88920"/>
            </a:xfrm>
            <a:custGeom>
              <a:avLst/>
              <a:gdLst/>
              <a:ahLst/>
              <a:rect l="l" t="t" r="r" b="b"/>
              <a:pathLst>
                <a:path w="99" h="56">
                  <a:moveTo>
                    <a:pt x="0" y="28"/>
                  </a:moveTo>
                  <a:lnTo>
                    <a:pt x="0" y="0"/>
                  </a:lnTo>
                  <a:lnTo>
                    <a:pt x="99" y="14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311800" y="3557160"/>
              <a:ext cx="587520" cy="1350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21280" y="3692520"/>
              <a:ext cx="157320" cy="13644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14" y="72"/>
                  </a:moveTo>
                  <a:lnTo>
                    <a:pt x="0" y="43"/>
                  </a:lnTo>
                  <a:lnTo>
                    <a:pt x="99" y="0"/>
                  </a:lnTo>
                  <a:lnTo>
                    <a:pt x="43" y="86"/>
                  </a:lnTo>
                  <a:lnTo>
                    <a:pt x="14" y="72"/>
                  </a:lnTo>
                  <a:close/>
                </a:path>
              </a:pathLst>
            </a:custGeom>
            <a:solidFill>
              <a:srgbClr val="000000"/>
            </a:solidFill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740560" y="3807000"/>
              <a:ext cx="203040" cy="1792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18240" y="3602160"/>
              <a:ext cx="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582880" y="3625920"/>
              <a:ext cx="442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468400" y="3648240"/>
              <a:ext cx="241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333760" y="3670200"/>
              <a:ext cx="4428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221080" y="3692520"/>
              <a:ext cx="219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108400" y="3716280"/>
              <a:ext cx="2232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95720" y="3738600"/>
              <a:ext cx="180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21280" y="3828960"/>
              <a:ext cx="1800" cy="1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808600" y="3895560"/>
              <a:ext cx="22320" cy="241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718240" y="3986280"/>
              <a:ext cx="2232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627520" y="4054320"/>
              <a:ext cx="2232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537160" y="4145040"/>
              <a:ext cx="2232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446440" y="4213080"/>
              <a:ext cx="21960" cy="223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5356080" y="4303800"/>
              <a:ext cx="22320" cy="219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5265720" y="4370400"/>
              <a:ext cx="23760" cy="237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43440" y="3840120"/>
              <a:ext cx="810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Reques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68960" y="3241800"/>
              <a:ext cx="227160" cy="45072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51920" y="2619360"/>
              <a:ext cx="829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Receipt &amp;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51920" y="2822400"/>
              <a:ext cx="68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queu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lternative server threading architectures (see also Figure 6.5)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08040" y="2222640"/>
            <a:ext cx="873288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te associated with execution environments and thread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81120" y="2359080"/>
            <a:ext cx="8459640" cy="2428920"/>
            <a:chOff x="681120" y="2359080"/>
            <a:chExt cx="8459640" cy="2428920"/>
          </a:xfrm>
        </p:grpSpPr>
        <p:sp>
          <p:nvSpPr>
            <p:cNvPr id="241" name=""/>
            <p:cNvSpPr/>
            <p:nvPr/>
          </p:nvSpPr>
          <p:spPr>
            <a:xfrm>
              <a:off x="712440" y="2419200"/>
              <a:ext cx="2356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xecution enviro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23640" y="2419200"/>
              <a:ext cx="73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h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9400" y="2749680"/>
              <a:ext cx="2123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ddress space t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94120" y="2749680"/>
              <a:ext cx="259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aved processor regi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1200" y="3016080"/>
              <a:ext cx="3821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munication interfaces, open 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93040" y="3016080"/>
              <a:ext cx="3688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iority and execution state (such 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65760" y="3284640"/>
              <a:ext cx="1160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LOCK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97960" y="328464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6320" y="3551400"/>
              <a:ext cx="359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Semaphores, other synchron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8520" y="3817800"/>
              <a:ext cx="721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bje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76120" y="3551400"/>
              <a:ext cx="408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ftware interrupt handling in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8760" y="4086360"/>
              <a:ext cx="246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st of thread identifi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87640" y="4086360"/>
              <a:ext cx="3384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ecution environment identif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40280" y="4465800"/>
              <a:ext cx="684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ges of address space resident in memory; hardware cache entr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1120" y="4786200"/>
              <a:ext cx="845964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1120" y="2359080"/>
              <a:ext cx="84596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1120" y="2711520"/>
              <a:ext cx="84596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6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Java thread constructor and management method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6400" y="1393920"/>
            <a:ext cx="8839440" cy="48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read(ThreadGroup group, Runnable target, String nam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reates a new thread in th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USPEND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tate, which will belong to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be identified a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; the thread will execute th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un(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method o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etPriority(int newPriority), getPriority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t and return the thread’s prior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u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thread executes th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un(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method of its target object, if it has one, and otherwise its ow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un(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method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mplement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unnab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ar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hange the state of the thread from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USPEND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UNNAB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leep(int millise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use the thread to enter th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USPEND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tate for the specified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yiel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nter th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EAD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tate and invoke the schedul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estroy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stroy the thre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0-11-26T16:58:12Z</dcterms:modified>
  <cp:revision>34</cp:revision>
  <dc:subject/>
  <dc:title>Figure 15.1 A distributed multimedia system</dc:title>
</cp:coreProperties>
</file>